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4DB-BE82-4AF6-A54A-77430397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EE4-177E-4B3C-B1BF-3A21F4B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990-0299-41B7-A9E3-C50ACDC1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8F0-9D4B-4C89-93F0-757E4C30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3C3-5E16-403D-A440-A94093D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15C-E159-408E-A6C2-A177DBC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159-5AD6-45CD-BFA7-AE091697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AE3-5FB0-4FEE-8E43-F65DD49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EEF-217A-4959-8967-9ECD9BE4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88F-D95C-490E-A863-16ED058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61D-FE5B-44BC-ADA3-AF2C020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B35-A302-40ED-90C7-4D767D80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28EC-CB43-45CF-B76E-A8245E9C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Elements of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063400">
            <a:off x="1295280" y="281916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Li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5720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280" y="251460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98760" y="457200"/>
            <a:ext cx="4319640" cy="5715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504800"/>
            <a:ext cx="8534160" cy="3848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731880"/>
            <a:ext cx="5943600" cy="5535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647640"/>
            <a:ext cx="5639040" cy="5564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803160"/>
            <a:ext cx="6782040" cy="5079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7661" t="28129" r="28879" b="33381"/>
          <a:stretch/>
        </p:blipFill>
        <p:spPr>
          <a:xfrm>
            <a:off x="380880" y="762120"/>
            <a:ext cx="8458200" cy="5616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6535" t="27130" r="28879" b="33381"/>
          <a:stretch/>
        </p:blipFill>
        <p:spPr>
          <a:xfrm>
            <a:off x="909720" y="641520"/>
            <a:ext cx="7400880" cy="4914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53160" cy="39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715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         Strength       Do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402732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304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523880"/>
            <a:ext cx="2057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74652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733920" cy="302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5943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       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05160" cy="404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304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314520" cy="3011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76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g Za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5334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os     Fren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91320" cy="406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880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ke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5791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he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0:06Z</dcterms:created>
  <dc:creator>Patrick J. Mooney</dc:creator>
  <dc:description/>
  <dc:language>en-US</dc:language>
  <cp:lastModifiedBy>Patrick J. Mooney</cp:lastModifiedBy>
  <dcterms:modified xsi:type="dcterms:W3CDTF">2012-01-05T03:14:04Z</dcterms:modified>
  <cp:revision>9</cp:revision>
  <dc:subject/>
  <dc:title>Slide 1</dc:title>
</cp:coreProperties>
</file>